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5273-8CE5-4A49-847D-D0683FF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5993-74C2-4F8F-9924-10701B9F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2DE8-5762-4FF7-96AA-5D45424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6BD9-2793-4FF5-8318-62882C99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AE46-2B74-4EF7-B0C1-850CE265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37F4-C313-4FC6-84FC-8510146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B092-8572-4BD6-BD87-C1064B05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CD18-2B63-4363-9847-AB47EFC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D0C3-B541-4CB8-B46E-BAF6059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4EB5-9377-4C64-ACE4-B7A91623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E475-2E02-4E42-A41B-AFEB6ED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8E98-955B-4B26-AD12-8BED893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4D96-5D1E-4C0A-8CE6-E14102BB79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4876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Et si on racontait l’histoire de la casquett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Contexte</a:t>
            </a: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vous venez de voir un truc incroyable à l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école qui est arrivée à un de vos amis et vous allez créer un petit film qui raconte cette histoir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Tâch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Petit film sur le modèle de la casquet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La clas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But</a:t>
            </a: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Raconter l’histoire du chat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La bonne méthod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adjectifs pour décrire les émotions de l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élève e ce qu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il faisait d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habitud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verbes d’action pour décrire ce qui s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est passé 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mots clés pour introduire vos action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Imparfait et Passé composé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 2" descr=""/>
          <p:cNvPicPr/>
          <p:nvPr/>
        </p:nvPicPr>
        <p:blipFill>
          <a:blip r:embed="rId1"/>
          <a:stretch/>
        </p:blipFill>
        <p:spPr>
          <a:xfrm>
            <a:off x="-12600" y="73080"/>
            <a:ext cx="8796240" cy="68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5-08T16:20:55Z</dcterms:modified>
  <cp:revision>86</cp:revision>
  <dc:subject/>
  <dc:title>Allez, viens! – Level 2</dc:title>
</cp:coreProperties>
</file>